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41F-6C6B-4B34-BEF8-DA491445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4E0-8D8D-4232-A932-AD4CC97C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011-EC00-402D-A4A6-195BDE11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445-92D6-45EB-B971-D9BF1AE4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E67-0372-40A4-AF3D-613D96FE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132-A4D9-4551-9DE5-20456EBD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810-37FB-4237-A920-505280C7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BE9-811D-4475-BEFF-A5CDE9DC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079-5A08-475F-88E8-14BD7C14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274-3DB9-4381-8E01-13AE071B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3C2-49B7-4871-80DC-C5153C74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82A-7BB4-4D2C-B1DE-1BFCC7A9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6322-5871-4734-BA4D-8CA8758D4C0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ogo unpisi 2"/>
          <p:cNvPicPr/>
          <p:nvPr/>
        </p:nvPicPr>
        <p:blipFill>
          <a:blip r:embed="rId1"/>
          <a:stretch/>
        </p:blipFill>
        <p:spPr>
          <a:xfrm>
            <a:off x="3059280" y="115920"/>
            <a:ext cx="1944360" cy="2232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5076720" y="189000"/>
            <a:ext cx="201636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UNIONE NAZIONALE PERSONALE  ISPETTIVO SANITARIO D’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79280" y="3086640"/>
            <a:ext cx="87138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CONVEGNO UNP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Regione Campania</a:t>
            </a:r>
            <a:r>
              <a:rPr b="0" lang="it-IT" sz="1800" spc="-1" strike="noStrike">
                <a:solidFill>
                  <a:srgbClr val="4999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Il Tecnico della Prevenzione nell’Ambiente e  nei  Luoghi di Lavoro e  le  novità  introdotte  dal D.L.vo 193/07 e  dal D.L.vo 81/2008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9994d"/>
                </a:solidFill>
                <a:latin typeface="Arial"/>
              </a:rPr>
              <a:t>CAS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Arial"/>
              </a:rPr>
              <a:t>10 NOVEMBRE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67320" y="-108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45360" y="618120"/>
            <a:ext cx="4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857160" y="2430720"/>
            <a:ext cx="735804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Associazione più rappresentativa d’Italia per i Tecnici della Preve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ecreto del Ministero della Salute del 19 giugn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logo unpisi 2"/>
          <p:cNvPicPr/>
          <p:nvPr/>
        </p:nvPicPr>
        <p:blipFill>
          <a:blip r:embed="rId1"/>
          <a:stretch/>
        </p:blipFill>
        <p:spPr>
          <a:xfrm>
            <a:off x="3059280" y="115920"/>
            <a:ext cx="1944360" cy="2232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5076720" y="189000"/>
            <a:ext cx="201636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UNIONE NAZIONALE PERSONALE  ISPETTIVO SANITARIO D’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79280" y="3149640"/>
            <a:ext cx="8713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CONVEGNO UNP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Regione Campania</a:t>
            </a:r>
            <a:r>
              <a:rPr b="0" lang="it-IT" sz="1800" spc="-1" strike="noStrike">
                <a:solidFill>
                  <a:srgbClr val="4999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D.L.vo 193/2007 controlli in materia di sicurezza alimentare e applicazione dei regolamenti comunitari nel medesimo setto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9994d"/>
                </a:solidFill>
                <a:latin typeface="Arial"/>
              </a:rPr>
              <a:t>CAS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Arial"/>
              </a:rPr>
              <a:t>10 NOVEMBRE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7320" y="-108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360" y="618120"/>
            <a:ext cx="4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2410200"/>
            <a:ext cx="77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ssociazione più rappresentativa d’italia per i Tecnici della Preve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Decreto del Ministero della Salute del 19 giugn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857160" y="2430720"/>
            <a:ext cx="735804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Associazione più rappresentativa d’Italia per i Tecnici della Preve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ecreto del Ministero della Salute del 19 giugn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logo unpisi 2"/>
          <p:cNvPicPr/>
          <p:nvPr/>
        </p:nvPicPr>
        <p:blipFill>
          <a:blip r:embed="rId1"/>
          <a:stretch/>
        </p:blipFill>
        <p:spPr>
          <a:xfrm>
            <a:off x="3059280" y="115920"/>
            <a:ext cx="1944360" cy="2232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5076720" y="189000"/>
            <a:ext cx="201636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UNIONE NAZIONALE PERSONALE  ISPETTIVO SANITARIO D’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9280" y="3084840"/>
            <a:ext cx="871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CONVEGNO UNP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Regione Campania</a:t>
            </a:r>
            <a:r>
              <a:rPr b="0" lang="it-IT" sz="1800" spc="-1" strike="noStrike">
                <a:solidFill>
                  <a:srgbClr val="4999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Contenzioso e Depenalizzazione nel Settore Alimentare e Ambienta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9994d"/>
                </a:solidFill>
                <a:latin typeface="Arial"/>
              </a:rPr>
              <a:t>CAS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Arial"/>
              </a:rPr>
              <a:t>10 NOVEMBRE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7320" y="-108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5360" y="618120"/>
            <a:ext cx="4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2410200"/>
            <a:ext cx="77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ssociazione più rappresentativa d’italia per i Tecnici della Preve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Decreto del Ministero della Salute del 19 giugn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857160" y="2430720"/>
            <a:ext cx="735804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Associazione più rappresentativa d’Italia per i Tecnici della Preve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ecreto del Ministero della Salute del 19 giugn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logo unpisi 2"/>
          <p:cNvPicPr/>
          <p:nvPr/>
        </p:nvPicPr>
        <p:blipFill>
          <a:blip r:embed="rId1"/>
          <a:stretch/>
        </p:blipFill>
        <p:spPr>
          <a:xfrm>
            <a:off x="3059280" y="115920"/>
            <a:ext cx="1944360" cy="2232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5076720" y="189000"/>
            <a:ext cx="201636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UNIONE NAZIONALE PERSONALE  ISPETTIVO SANITARIO D’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9280" y="2872080"/>
            <a:ext cx="871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CONVEGNO UNP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Regione Campania</a:t>
            </a:r>
            <a:r>
              <a:rPr b="0" lang="it-IT" sz="1800" spc="-1" strike="noStrike">
                <a:solidFill>
                  <a:srgbClr val="4999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D.L.vo 81/2008 - Testo Unico della Sicurezza –analisi delle principali novità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9994d"/>
                </a:solidFill>
                <a:latin typeface="Arial"/>
              </a:rPr>
              <a:t>CAS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Arial"/>
              </a:rPr>
              <a:t>10 NOVEMBRE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7320" y="-108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5360" y="618120"/>
            <a:ext cx="4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2410200"/>
            <a:ext cx="77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ssociazione più rappresentativa d’italia per i Tecnici della Preve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Decreto del Ministero della Salute del 19 giugn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857160" y="2430720"/>
            <a:ext cx="735804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Associazione più rappresentativa d’Italia per i Tecnici della Preve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ecreto del Ministero della Salute del 19 giugn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logo unpisi 2"/>
          <p:cNvPicPr/>
          <p:nvPr/>
        </p:nvPicPr>
        <p:blipFill>
          <a:blip r:embed="rId1"/>
          <a:stretch/>
        </p:blipFill>
        <p:spPr>
          <a:xfrm>
            <a:off x="3059280" y="115920"/>
            <a:ext cx="1944360" cy="2232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5076720" y="189000"/>
            <a:ext cx="201636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UNIONE NAZIONALE PERSONALE  ISPETTIVO SANITARIO D’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79280" y="3081960"/>
            <a:ext cx="87138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CONVEGNO UNP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Regione Campania</a:t>
            </a:r>
            <a:r>
              <a:rPr b="0" lang="it-IT" sz="1800" spc="-1" strike="noStrike">
                <a:solidFill>
                  <a:srgbClr val="4999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TAVOLA ROTONDA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9994d"/>
                </a:solidFill>
                <a:latin typeface="Arial"/>
              </a:rPr>
              <a:t>CAS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Arial"/>
              </a:rPr>
              <a:t>10 NOVEMBRE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7320" y="-108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360" y="618120"/>
            <a:ext cx="4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2410200"/>
            <a:ext cx="77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ssociazione più rappresentativa d’italia per i Tecnici della Preve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Decreto del Ministero della Salute del 19 giugn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857160" y="2430720"/>
            <a:ext cx="735804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Associazione più rappresentativa d’Italia per i Tecnici della Preve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ecreto del Ministero della Salute del 19 giugn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logo unpisi 2"/>
          <p:cNvPicPr/>
          <p:nvPr/>
        </p:nvPicPr>
        <p:blipFill>
          <a:blip r:embed="rId1"/>
          <a:stretch/>
        </p:blipFill>
        <p:spPr>
          <a:xfrm>
            <a:off x="3059280" y="115920"/>
            <a:ext cx="19443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5076720" y="189000"/>
            <a:ext cx="201636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UNIONE NAZIONALE PERSONALE  ISPETTIVO SANITARIO D’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3084840"/>
            <a:ext cx="871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CONVEGNO UNP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49994d"/>
                </a:solidFill>
                <a:latin typeface="Times New Roman"/>
              </a:rPr>
              <a:t>Regione Campania</a:t>
            </a:r>
            <a:r>
              <a:rPr b="0" lang="it-IT" sz="1800" spc="-1" strike="noStrike">
                <a:solidFill>
                  <a:srgbClr val="4999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SI RINGRAZIA TUTTI COLORO CHE HANNO PARTECIPATO AL CONVEG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9994d"/>
                </a:solidFill>
                <a:latin typeface="Arial"/>
              </a:rPr>
              <a:t>CAS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994d"/>
                </a:solidFill>
                <a:latin typeface="Arial"/>
              </a:rPr>
              <a:t>10 NOVEMBRE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7320" y="-108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5360" y="618120"/>
            <a:ext cx="4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2410200"/>
            <a:ext cx="77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ssociazione più rappresentativa d’italia per i Tecnici della Preve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Decreto del Ministero della Salute del 19 giugn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857160" y="2430720"/>
            <a:ext cx="735804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Associazione più rappresentativa d’Italia per i Tecnici della Preve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ecreto del Ministero della Salute del 19 giugn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35:14Z</dcterms:created>
  <dc:creator>Customer</dc:creator>
  <dc:description/>
  <dc:language>en-US</dc:language>
  <cp:lastModifiedBy>utente</cp:lastModifiedBy>
  <dcterms:modified xsi:type="dcterms:W3CDTF">2008-11-03T08:16:06Z</dcterms:modified>
  <cp:revision>86</cp:revision>
  <dc:subject/>
  <dc:title>Diapositiva 1</dc:title>
</cp:coreProperties>
</file>